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9D62-8332-4C96-8CEE-0C7D8E7B9BCD}"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6F38-1E04-48E8-AF3F-B3F5A6DBE0E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965C-1640-4BAA-AAE4-1C83946FFD6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1694-D1EE-444C-85AB-740FD91444F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5D4C-5397-4BC4-AA1F-9D531DE640D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146160" y="299880"/>
            <a:ext cx="814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The Case for Data Management; Presented 6 Dec 2011, AGU Data Management 101 for the Earth Scientist</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dx.doi.org/10.1126/science.1203354" TargetMode="External"/><Relationship Id="rId2" Type="http://schemas.openxmlformats.org/officeDocument/2006/relationships/hyperlink" Target="http://research.microsoft.com/en-us/collaboration/fourthparadigm/4th_paradigm_book_part4_lynch.pdf" TargetMode="Externa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jstage.jst.go.jp/article/dsj/6/0/OD36/_pdf" TargetMode="External"/><Relationship Id="rId2" Type="http://schemas.openxmlformats.org/officeDocument/2006/relationships/hyperlink" Target="http://www.jstor.org/stable/10.1525/bio.2009.59.5.9" TargetMode="External"/><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The Case for Data Management</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Why</a:t>
            </a:r>
            <a:endParaRPr b="0" lang="en-US" sz="4400" spc="-1" strike="noStrike">
              <a:solidFill>
                <a:srgbClr val="000000"/>
              </a:solidFill>
              <a:latin typeface="Helvetica Neue Light"/>
            </a:endParaRPr>
          </a:p>
        </p:txBody>
      </p:sp>
      <p:sp>
        <p:nvSpPr>
          <p:cNvPr id="76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re-use is growing in importance in almost all scientific field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re-use depends on the availability of trust-worthy data se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ust in data is highly connected to the reputation of the data collectors and data archive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ving a reputation for collecting and sharing high quality and well documented data makes it more likely tha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us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cit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share their data with you.</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How</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3"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get a reputation for data managemen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ke data openly accessible by submitting to open data archiv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comprehensive meta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nswer questions from data users in a timely manner.</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ensure that reputations for data management can grow?</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proper attribution when you use data collected by someone else.</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ite data sets in your reference l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ach proper data management and data attribution to new scient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6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agencies have or are developing data management policies or guidelin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n investigator:</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discuss data management in your proposals in order to obtain fund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follow agency mandates in regards to managing or archiving the data you generate in order to retain funded status.</a:t>
            </a:r>
            <a:endParaRPr b="0" lang="en-US" sz="28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58720" y="533520"/>
            <a:ext cx="1111248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gencies with Proposal Requirements</a:t>
            </a:r>
            <a:r>
              <a:rPr b="0" lang="en-US" sz="3600" spc="-1" strike="noStrike">
                <a:solidFill>
                  <a:srgbClr val="000000"/>
                </a:solidFill>
                <a:latin typeface="Helvetica Neue Light"/>
              </a:rPr>
              <a:t>	</a:t>
            </a:r>
            <a:endParaRPr b="0" lang="en-US" sz="3600" spc="-1" strike="noStrike">
              <a:solidFill>
                <a:srgbClr val="000000"/>
              </a:solidFill>
              <a:latin typeface="Helvetica Neue Light"/>
            </a:endParaRPr>
          </a:p>
        </p:txBody>
      </p:sp>
      <p:sp>
        <p:nvSpPr>
          <p:cNvPr id="76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requires a two page data management plan submitted with all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ASA Earth Science solicitations require a discussion of data management in submitted proposal.</a:t>
            </a:r>
            <a:endParaRPr b="0" lang="en-US" sz="3400" spc="-1" strike="noStrike">
              <a:solidFill>
                <a:srgbClr val="60606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685440"/>
            <a:ext cx="111884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Agencies with Data Management Mandates</a:t>
            </a:r>
            <a:r>
              <a:rPr b="0" lang="en-US" sz="4000" spc="-1" strike="noStrike">
                <a:solidFill>
                  <a:srgbClr val="000000"/>
                </a:solidFill>
                <a:latin typeface="Helvetica Neue Light"/>
              </a:rPr>
              <a:t>	</a:t>
            </a:r>
            <a:endParaRPr b="0" lang="en-US" sz="4000" spc="-1" strike="noStrike">
              <a:solidFill>
                <a:srgbClr val="000000"/>
              </a:solidFill>
              <a:latin typeface="Helvetica Neue Light"/>
            </a:endParaRPr>
          </a:p>
        </p:txBody>
      </p:sp>
      <p:sp>
        <p:nvSpPr>
          <p:cNvPr id="76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SF directorates and even specific solicitations have specific requirements for what data should be archived and where the data should go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ll NASA Earth Science science missions, projects, and grants and cooperative agreements require a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offices, contractors and partners receiving NOAA funding must manage environmental data in compliance with Federal requirements and directives</a:t>
            </a:r>
            <a:endParaRPr b="0" lang="en-US" sz="34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1" name="PlaceHolder 2"/>
          <p:cNvSpPr>
            <a:spLocks noGrp="1"/>
          </p:cNvSpPr>
          <p:nvPr>
            <p:ph/>
          </p:nvPr>
        </p:nvSpPr>
        <p:spPr>
          <a:xfrm>
            <a:off x="634680" y="2209680"/>
            <a:ext cx="11861640" cy="7048800"/>
          </a:xfrm>
          <a:prstGeom prst="rect">
            <a:avLst/>
          </a:prstGeom>
          <a:noFill/>
          <a:ln w="0">
            <a:noFill/>
          </a:ln>
        </p:spPr>
        <p:txBody>
          <a:bodyPr lIns="50760" rIns="50760" tIns="50760" bIns="50760" anchor="t">
            <a:normAutofit fontScale="97000"/>
          </a:bodyPr>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Arzberger P, Schroeder P, Beaulieu A, Bowker G, Casey K, Laaksonen  Moorman D, Uhlir P, and P Wouters. 2004. “Promoting Access to Public Research Data for Scientific, Economic, and Social Development,” </a:t>
            </a:r>
            <a:r>
              <a:rPr b="0" i="1" lang="en-US" sz="3000" spc="-1" strike="noStrike">
                <a:solidFill>
                  <a:srgbClr val="606060"/>
                </a:solidFill>
                <a:latin typeface="Helvetica Neue"/>
              </a:rPr>
              <a:t>Data Science Journal </a:t>
            </a:r>
            <a:r>
              <a:rPr b="0" lang="en-US" sz="3000" spc="-1" strike="noStrike">
                <a:solidFill>
                  <a:srgbClr val="606060"/>
                </a:solidFill>
                <a:latin typeface="Helvetica Neue"/>
              </a:rPr>
              <a:t>Volume 3,. </a:t>
            </a:r>
            <a:endParaRPr b="0" lang="en-US" sz="3000" spc="-1" strike="noStrike">
              <a:solidFill>
                <a:srgbClr val="606060"/>
              </a:solidFill>
              <a:latin typeface="Helvetica Neue"/>
            </a:endParaRPr>
          </a:p>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Hanson, B., A. Sugden, and B. Alberts. 2011. “Making data maximally available.” </a:t>
            </a:r>
            <a:r>
              <a:rPr b="0" i="1" lang="fr-FR" sz="3000" spc="-1" strike="noStrike">
                <a:solidFill>
                  <a:srgbClr val="606060"/>
                </a:solidFill>
                <a:latin typeface="Helvetica Neue"/>
              </a:rPr>
              <a:t>Science </a:t>
            </a:r>
            <a:r>
              <a:rPr b="0" lang="fr-FR" sz="3000" spc="-1" strike="noStrike">
                <a:solidFill>
                  <a:srgbClr val="606060"/>
                </a:solidFill>
                <a:latin typeface="Helvetica Neue"/>
              </a:rPr>
              <a:t>331(6018): 649. </a:t>
            </a:r>
            <a:r>
              <a:rPr b="0" lang="fr-FR" sz="3000" spc="-1" strike="noStrike" u="sng">
                <a:solidFill>
                  <a:srgbClr val="009999"/>
                </a:solidFill>
                <a:uFillTx/>
                <a:latin typeface="Helvetica Neue"/>
                <a:hlinkClick r:id="rId1"/>
              </a:rPr>
              <a:t>http://dx.doi.org/10.1126/science.1203354</a:t>
            </a:r>
            <a:r>
              <a:rPr b="0" lang="fr-FR" sz="3000" spc="-1" strike="noStrike">
                <a:solidFill>
                  <a:srgbClr val="606060"/>
                </a:solidFill>
                <a:latin typeface="Helvetica Neue"/>
              </a:rPr>
              <a:t>  </a:t>
            </a:r>
            <a:endParaRPr b="0" lang="en-US" sz="3000" spc="-1" strike="noStrike">
              <a:solidFill>
                <a:srgbClr val="606060"/>
              </a:solidFill>
              <a:latin typeface="Helvetica Neue"/>
            </a:endParaRPr>
          </a:p>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Lynch, C. 2009. “Jim Gray’s Fourth Paradigm and the Construction of the Scientific Record.” In </a:t>
            </a:r>
            <a:r>
              <a:rPr b="0" i="1" lang="en-US" sz="3000" spc="-1" strike="noStrike">
                <a:solidFill>
                  <a:srgbClr val="606060"/>
                </a:solidFill>
                <a:latin typeface="Helvetica Neue"/>
              </a:rPr>
              <a:t>The Fourth Paradigm: Data-Intensive Scientific Discovery, </a:t>
            </a:r>
            <a:r>
              <a:rPr b="0" lang="en-US" sz="3000" spc="-1" strike="noStrike">
                <a:solidFill>
                  <a:srgbClr val="606060"/>
                </a:solidFill>
                <a:latin typeface="Helvetica Neue"/>
              </a:rPr>
              <a:t>edited by T. Hey, S. Tansley, &amp; K. Tolle,137-146</a:t>
            </a:r>
            <a:r>
              <a:rPr b="0" i="1" lang="en-US" sz="3000" spc="-1" strike="noStrike">
                <a:solidFill>
                  <a:srgbClr val="606060"/>
                </a:solidFill>
                <a:latin typeface="Helvetica Neue"/>
              </a:rPr>
              <a:t>. </a:t>
            </a:r>
            <a:r>
              <a:rPr b="0" lang="en-US" sz="3000" spc="-1" strike="noStrike">
                <a:solidFill>
                  <a:srgbClr val="606060"/>
                </a:solidFill>
                <a:latin typeface="Helvetica Neue"/>
              </a:rPr>
              <a:t>Redmond, WA: Microsoft</a:t>
            </a:r>
            <a:r>
              <a:rPr b="0" i="1" lang="en-US" sz="3000" spc="-1" strike="noStrike">
                <a:solidFill>
                  <a:srgbClr val="606060"/>
                </a:solidFill>
                <a:latin typeface="Helvetica Neue"/>
              </a:rPr>
              <a:t>. </a:t>
            </a:r>
            <a:r>
              <a:rPr b="0" i="1" lang="en-US" sz="3000" spc="-1" strike="noStrike" u="sng">
                <a:solidFill>
                  <a:srgbClr val="009999"/>
                </a:solidFill>
                <a:uFillTx/>
                <a:latin typeface="Helvetica Neue"/>
                <a:hlinkClick r:id="rId2"/>
              </a:rPr>
              <a:t>http://research.microsoft.com/en-us/collaboration/fourthparadigm/4th_paradigm_book_part4_lynch.pdf</a:t>
            </a:r>
            <a:r>
              <a:rPr b="0" lang="en-US" sz="3000" spc="-1" strike="noStrike">
                <a:solidFill>
                  <a:srgbClr val="606060"/>
                </a:solidFill>
                <a:latin typeface="Helvetica Neue"/>
              </a:rPr>
              <a:t> </a:t>
            </a:r>
            <a:endParaRPr b="0" lang="en-US" sz="3000" spc="-1" strike="noStrike">
              <a:solidFill>
                <a:srgbClr val="606060"/>
              </a:solidFill>
              <a:latin typeface="Helvetica Neue"/>
            </a:endParaRPr>
          </a:p>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Piwowar HA, Day RS, Fridsma DB, 2007 “Sharing Detailed Research Data Is Associated with Increased Citation Rate”. PLoS ONE 2(3): e308. doi:10.1371/journal.pone.0000308  </a:t>
            </a:r>
            <a:endParaRPr b="0" lang="en-US" sz="3000" spc="-1" strike="noStrike">
              <a:solidFill>
                <a:srgbClr val="606060"/>
              </a:solidFill>
              <a:latin typeface="Helvetica Neue"/>
            </a:endParaRPr>
          </a:p>
          <a:p>
            <a:pPr marL="36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a:p>
            <a:pPr marL="36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6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Uhlir, P.F. and P. Schröder. 2007. “Open data for global science.” </a:t>
            </a:r>
            <a:r>
              <a:rPr b="0" i="1" lang="en-US" sz="3000" spc="-1" strike="noStrike">
                <a:solidFill>
                  <a:srgbClr val="606060"/>
                </a:solidFill>
                <a:latin typeface="Helvetica Neue"/>
              </a:rPr>
              <a:t>Data Science Journal </a:t>
            </a:r>
            <a:r>
              <a:rPr b="0" lang="en-US" sz="3000" spc="-1" strike="noStrike">
                <a:solidFill>
                  <a:srgbClr val="606060"/>
                </a:solidFill>
                <a:latin typeface="Helvetica Neue"/>
              </a:rPr>
              <a:t>Volume 6. </a:t>
            </a:r>
            <a:r>
              <a:rPr b="0" lang="en-US" sz="3000" spc="-1" strike="noStrike" u="sng">
                <a:solidFill>
                  <a:srgbClr val="009999"/>
                </a:solidFill>
                <a:uFillTx/>
                <a:latin typeface="Helvetica Neue"/>
                <a:hlinkClick r:id="rId1"/>
              </a:rPr>
              <a:t>http://www.jstage.jst.go.jp/article/dsj/6/0/OD36/_pdf</a:t>
            </a:r>
            <a:r>
              <a:rPr b="0" lang="en-US" sz="3000" spc="-1" strike="noStrike">
                <a:solidFill>
                  <a:srgbClr val="606060"/>
                </a:solidFill>
                <a:latin typeface="Helvetica Neue"/>
              </a:rPr>
              <a:t> </a:t>
            </a:r>
            <a:endParaRPr b="0" lang="en-US" sz="30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Costello, M. J. 2009. “Motivating Online Publication of Data.” </a:t>
            </a:r>
            <a:r>
              <a:rPr b="0" i="1" lang="en-US" sz="3000" spc="-1" strike="noStrike">
                <a:solidFill>
                  <a:srgbClr val="606060"/>
                </a:solidFill>
                <a:latin typeface="Helvetica Neue"/>
              </a:rPr>
              <a:t>BioScience</a:t>
            </a:r>
            <a:r>
              <a:rPr b="0" lang="en-US" sz="3000" spc="-1" strike="noStrike">
                <a:solidFill>
                  <a:srgbClr val="606060"/>
                </a:solidFill>
                <a:latin typeface="Helvetica Neue"/>
              </a:rPr>
              <a:t> 59(5): 418-427. </a:t>
            </a:r>
            <a:r>
              <a:rPr b="0" lang="en-US" sz="3000" spc="-1" strike="noStrike" u="sng">
                <a:solidFill>
                  <a:srgbClr val="009999"/>
                </a:solidFill>
                <a:uFillTx/>
                <a:latin typeface="Helvetica Neue"/>
                <a:hlinkClick r:id="rId2"/>
              </a:rPr>
              <a:t>http://www.jstor.org/stable/10.1525/bio.2009.59.5.9</a:t>
            </a:r>
            <a:endParaRPr b="0" lang="en-US" sz="30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Milinski, M., D. Semmann, and H.-J. Krambeck. 2002. “Reputation Helps Solve the ‘Tragedy of the Commons’.” </a:t>
            </a:r>
            <a:r>
              <a:rPr b="0" i="1" lang="en-US" sz="3000" spc="-1" strike="noStrike">
                <a:solidFill>
                  <a:srgbClr val="606060"/>
                </a:solidFill>
                <a:latin typeface="Helvetica Neue"/>
              </a:rPr>
              <a:t>Nature</a:t>
            </a:r>
            <a:r>
              <a:rPr b="0" lang="en-US" sz="3000" spc="-1" strike="noStrike">
                <a:solidFill>
                  <a:srgbClr val="606060"/>
                </a:solidFill>
                <a:latin typeface="Helvetica Neue"/>
              </a:rPr>
              <a:t> 415(6870): 424-426. http://dx.doi.org/10.1038/415424a </a:t>
            </a:r>
            <a:endParaRPr b="0" lang="en-US" sz="30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Barton, C., R. Smith, and R. Weaver. 2010. “Data practices, policy, and rewards in the information era demand a new paradigm.” </a:t>
            </a:r>
            <a:r>
              <a:rPr b="0" i="1" lang="en-US" sz="3000" spc="-1" strike="noStrike">
                <a:solidFill>
                  <a:srgbClr val="606060"/>
                </a:solidFill>
                <a:latin typeface="Helvetica Neue"/>
              </a:rPr>
              <a:t>Data Science Journal</a:t>
            </a:r>
            <a:r>
              <a:rPr b="0" lang="en-US" sz="3000" spc="-1" strike="noStrike">
                <a:solidFill>
                  <a:srgbClr val="606060"/>
                </a:solidFill>
                <a:latin typeface="Helvetica Neue"/>
              </a:rPr>
              <a:t> 9(12). http://www.jstage.jst.go.jp/article/dsj/9/0/IGY95/_pdf</a:t>
            </a:r>
            <a:endParaRPr b="0" lang="en-US" sz="30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UC3 overview of Federal Funding Agency Data Management and Sharing Policies: http://www.cdlib.org/services/uc3/datamanagement/funding.htm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Agency Guidanc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Guidance: http://www.nsf.gov/bfa/dias/policy/dmp.js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ASA Data Policy: http://science1.nasa.gov/earth-science/earth-science-data/data-information-polic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OAA Administrative Order 212-15: http://www.corporateservices.noaa.gov/~ames/NAOs/Chap_212/naos_212_15.html</a:t>
            </a:r>
            <a:endParaRPr b="0" lang="en-US" sz="28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 Data Policy</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2011. “Award and Administration Guide.” </a:t>
            </a:r>
            <a:r>
              <a:rPr b="0" lang="en-US" sz="2800" spc="-1" strike="noStrike">
                <a:solidFill>
                  <a:srgbClr val="606060"/>
                </a:solidFill>
                <a:latin typeface="Helvetica Neue"/>
              </a:rPr>
              <a:t>http://www.nsf.gov/pubs/policydocs/pappguide/nsf11001/aag_6.jsp#VID4.</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ata Management Plan Requirement</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Grant Proposal Guide, Chapter II.C.2.j.” http://www.nsf.gov/pubs/policydocs/pappguide/nsf11001/gpg_2.jsp#dmp.</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irectorates with specific guidance</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Dissemination and Sharing of Research Results.” http://www.nsf.gov/bfa/dias/policy/dmp.jsp.</a:t>
            </a:r>
            <a:endParaRPr b="0" lang="en-US" sz="28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ing the scientific recor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acilitating science through data shar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turn on invest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nhancing your reput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ponding to agency requirements</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cientific record is an aggregation of:</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cientific journal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ference presentations and proceeding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chnical reports and pre-prin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The underlying data, software, and other evidence to support published finding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aggregation is highly distributed acros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ibraries, archives, and museum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cent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profit publish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web sit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file cabinets and hard drives.</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urpose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06060"/>
                </a:solidFill>
                <a:latin typeface="Helvetica Neue"/>
              </a:rPr>
              <a:t>Communicating findings, hypotheses, and insights </a:t>
            </a:r>
            <a:r>
              <a:rPr b="0" lang="en-US" sz="3200" spc="-1" strike="noStrike">
                <a:solidFill>
                  <a:srgbClr val="606060"/>
                </a:solidFill>
                <a:latin typeface="Helvetica Neue"/>
              </a:rPr>
              <a:t>from one person to another, across space and time.</a:t>
            </a:r>
            <a:endParaRPr b="0" lang="en-US" sz="32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rganizing scientific communitie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stablishing common nomenclature and terminology.</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necting related work.</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ing discipline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Documenting, managing, </a:t>
            </a:r>
            <a:r>
              <a:rPr b="0" lang="en-US" sz="3400" spc="-1" strike="noStrike">
                <a:solidFill>
                  <a:srgbClr val="606060"/>
                </a:solidFill>
                <a:latin typeface="Helvetica Neue"/>
              </a:rPr>
              <a:t>and</a:t>
            </a:r>
            <a:r>
              <a:rPr b="0" i="1" lang="en-US" sz="3400" spc="-1" strike="noStrike">
                <a:solidFill>
                  <a:srgbClr val="606060"/>
                </a:solidFill>
                <a:latin typeface="Helvetica Neue"/>
              </a:rPr>
              <a:t> resolving </a:t>
            </a:r>
            <a:r>
              <a:rPr b="0" lang="en-US" sz="3400" spc="-1" strike="noStrike">
                <a:solidFill>
                  <a:srgbClr val="606060"/>
                </a:solidFill>
                <a:latin typeface="Helvetica Neue"/>
              </a:rPr>
              <a:t>controversies and disagreement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Establishing precedence </a:t>
            </a:r>
            <a:r>
              <a:rPr b="0" lang="en-US" sz="3400" spc="-1" strike="noStrike">
                <a:solidFill>
                  <a:srgbClr val="606060"/>
                </a:solidFill>
                <a:latin typeface="Helvetica Neue"/>
              </a:rPr>
              <a:t>for ideas and result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ffering evidence for the quality and significance </a:t>
            </a:r>
            <a:r>
              <a:rPr b="0" lang="en-US" sz="3400" spc="-1" strike="noStrike">
                <a:solidFill>
                  <a:srgbClr val="606060"/>
                </a:solidFill>
                <a:latin typeface="Helvetica Neue"/>
              </a:rPr>
              <a:t>of scientific work through citation and bibliometrics.</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hallenges to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wo major challenges to the scientific record </a:t>
            </a:r>
            <a:endParaRPr b="0" lang="en-US" sz="36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complexity of experiments and data cause the linkages between evidence and writings to become more complex and elusive.</a:t>
            </a:r>
            <a:endParaRPr b="0" lang="en-US" sz="32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rate of the growth of the literature and data.</a:t>
            </a:r>
            <a:endParaRPr b="0" lang="en-US" sz="32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ciplines and sub-specialties branch and grow continuously.</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ools and practices were developed to help manage literature: specialized journals, citations, indices, review journals and bibliographies, managed vocabularies, and taxonomies in various areas of science.</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se tools and practices are either non-existent or just beginning for data.</a:t>
            </a:r>
            <a:endParaRPr b="0" lang="en-US" sz="2800" spc="-1" strike="noStrike">
              <a:solidFill>
                <a:srgbClr val="606060"/>
              </a:solidFill>
              <a:latin typeface="Helvetica Neue"/>
            </a:endParaRPr>
          </a:p>
          <a:p>
            <a:pPr lvl="2" marL="1569960" indent="-377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eservation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enets of the scientific record</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are trustworthy.</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enable results to be reproducible and/or transparent.</a:t>
            </a: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reserving the scientific record: Data considerations</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stored in a trustworthy institutional setting?</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documented in a way that ensures understandability, reproducibility, and transparency over time?</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acilitating science through data shar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lving modern complex scientific problems typically requires access to a wide variety of multi-disciplinary data.</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en small data sets produced by a researcher or a small research team can be useful to a broader community.</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turn on invest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o should own the data from publically funded research?</a:t>
            </a:r>
            <a:endParaRPr b="0" lang="en-US" sz="34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tudies have shown that making publically funded Earth science data openly and freely available drives economic growth.</a:t>
            </a:r>
            <a:endParaRPr b="0" lang="en-US" sz="28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ilarly, studies have shown that there are positive public health and well-being impacts if publicly funded data is available.</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s the return on your investment if your data is lost due to poor data management practice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cientific Reputation</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putation is central to the scientific community.</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earchers build a reputation by producing valuable results, contributing constructively to scientific debates, and being good colleague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eer-recognition influences one’s employment opportunities, promotion at work, and ability to win further research funding.</a:t>
            </a:r>
            <a:endParaRPr b="0" lang="en-US" sz="3400" spc="-1" strike="noStrike">
              <a:solidFill>
                <a:srgbClr val="60606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21:26:09Z</dcterms:created>
  <dc:creator/>
  <dc:description/>
  <cp:keywords/>
  <dc:language>en-US</dc:language>
  <cp:lastModifiedBy>Carol Meyer</cp:lastModifiedBy>
  <dcterms:modified xsi:type="dcterms:W3CDTF">2011-12-05T21:39:21Z</dcterms:modified>
  <cp:revision>80</cp:revision>
  <dc:subject/>
  <dc:title>ESIP Federation 101</dc:title>
</cp:coreProperties>
</file>